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592D-58D7-483A-A6D3-4A4AEF3B79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ADED-179C-4B34-B52C-C080331195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44E9-4E86-480A-844B-E17F24927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6907-489E-4583-ADBA-F5DD35AE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EEDD-3103-4E7D-8AE0-351614D06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48AC-3068-4580-B0A8-CE8F71C48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CED6-09C8-4722-B16C-8F14A436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0212-1E75-41B0-AF33-D24C6314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C12D-87F6-4B1F-97BB-A9614E37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C984-6CE6-48F2-A99C-29E15934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BDB4-7A26-4E92-834A-37E36B73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06DA-CC35-4C4D-BAB6-1BA8D53A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6694-82EA-4CC2-B8C5-6232D8A0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4FE6-B48C-4D12-B588-65DABE4E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A302-38DB-4AE1-99FD-E1CD28745A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E659-2489-4A79-BDEA-0177F36651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287280" y="1555920"/>
          <a:ext cx="8829720" cy="530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555920"/>
                    <a:ext cx="8829720" cy="53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муниципального долга на 1 сентября 2023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2A0E-8B5C-48B8-AF49-E4D5523D37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на 1 сентября 2023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182520" y="1044720"/>
          <a:ext cx="9875880" cy="607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1044720"/>
                    <a:ext cx="987588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RePack by Diakov</cp:lastModifiedBy>
  <cp:lastPrinted>2020-01-10T05:43:34Z</cp:lastPrinted>
  <dcterms:modified xsi:type="dcterms:W3CDTF">2023-08-30T06:58:49Z</dcterms:modified>
  <cp:revision>156</cp:revision>
  <dc:subject/>
  <dc:title>Презентация PowerPoint</dc:title>
</cp:coreProperties>
</file>